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234-EA77-4ED2-B887-23E1C91E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171-DAA6-4FA2-BFA0-24F3E65B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CCE-C1A3-405F-BB8B-80298331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F18-D07C-4E74-9DF6-C9259D04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D4B-B674-4CAE-A11D-E8E0754A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A28-3F3F-42FC-8CAC-AA89ACDD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105-1BCB-4769-AD38-F54347B2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941-BB65-4E6A-856E-F2971746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358-A686-43BC-AEBF-C20E8DEE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2FF-4F20-4719-8A66-DEAA6BF7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A71-B9CD-46AE-9532-8E790B6B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76D-F86F-422D-A697-3C0C484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9704-0C88-45CE-AF66-2DCF8D1BE0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ت الذي يعرفُ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قصى درجات صغر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أنت لا تخافُ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 تنزل عليّ وتنحني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ألهب بحبّ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ها قلبي يتوق الي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كم أرجو طيبتكَ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أن تهبني الموت من الحب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يسوع اسمع صرختي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واستمع صراخ حنان قلب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ألهب بحبّ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ها قلبي يتوق الي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1T10:56:21Z</dcterms:created>
  <dc:creator>-</dc:creator>
  <dc:description/>
  <dc:language>en-US</dc:language>
  <cp:lastModifiedBy>ف</cp:lastModifiedBy>
  <dcterms:modified xsi:type="dcterms:W3CDTF">2006-04-13T18:08:57Z</dcterms:modified>
  <cp:revision>4</cp:revision>
  <dc:subject/>
  <dc:title>أنت الذي يعرفُ أقصى درجات صغري وأنت لا تخافُ أن تنزل عليّ وتنحني </dc:title>
</cp:coreProperties>
</file>